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FA6-AE37-44F3-8033-B63F1E2C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865-B1E4-416A-ABB4-9C7E409AF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fistula is both the exit for the unclean blood and entry point for the cleansed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ours per week does the average dialysis patient undergo di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ternative site for a fistul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5D5-D965-45AF-A6CA-4C0DC488A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peritoneal membrane located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554-6C6C-44A9-B36F-E080DC3879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peritoneal dialy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6F4-8BA1-4DDF-A694-FC318A0DA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kidney transplants each year than any other organ transplant surgery, with many on waiting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69D-DD8C-412E-AB46-EE981CE4B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screening and evaluation of both donor and recipient are performed to offer a compatible match and the best possibl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79DD-9381-42F7-A65D-C3C0FF383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n acute uremic episode dangero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ust a patient do if acute renal failure occu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A037-461C-4CC1-A530-47C0AFEE5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onsidered an emerg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6DB-80F3-413B-8784-EB6586CDD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renal damage can be prevented by controlling exposure to nephrotoxic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225-2981-47D0-BC84-9086C9F2E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metabolic acid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E18-C814-4703-83E0-F360A01534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infections common in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53D-A9AD-4621-833F-3F3B20F88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function of the kidney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4F0-75B4-451A-BEE0-BD61271B35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oss of nephrons diminish kidney fun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E7D2-60DB-45EF-AC6E-7C5A7F25B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presence of hypertension and edema in chronic renal failure represent? (retention of flu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lood in the urine (hematuria)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1AE-8B0F-460B-91F7-C2E4A39FA1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auses of chronic renal failure? (primary disease or infections of the kidney such as glomerulonephritis, pyelonephritis, etc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renal failure is often the end stage of chronic renal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hronic renal failure be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98F1-75A7-41ED-864F-4565EC9EF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elonephritis is usually caused by an infection, pregnancy , or renal calculi (sto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the most common type of renal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A52-9A03-43C1-9CA7-2B1D0FC0B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ymptoms have a rapid ons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symptoms? (foul-smelling urine, which may contain blood and pus, and tender pubic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EFB-B32A-4F32-8E45-2EF30F570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s are prone to infection when urine is obstructed by kidney stones, tumors or an enlarged pro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static urine significantly increase the risk of infe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31E9-CF93-48C3-85D2-96B92B38AF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 a “clean-catch urine specime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n accurate diagnosis be made with only a urin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4D14-9916-4749-8DCD-31E38CCC6C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omen prevent pyelonephritis? (empty bladder after intercourse, increase fluid intake, front-to-back wiping of fecal mat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increased fluid intake help prevent pye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B9D-ADED-4232-A41F-1A54B8A5B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ymptoms of kidney st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8998-99BF-409F-9009-EC31A9FAE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stones can occur singly or in mu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can go unnot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stones cause blee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36C-D28F-4C92-A4BD-8E7A659AD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ests of urinary tract disorders include culture and sensitivity tests, radiologic tests, and biopsies of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ach of these procedures used to detect? (determine antibiotic therapy, visualize structural abnormalities, determine malignancy of lesions, respectiv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DD5A-DA72-41D0-A3CE-FB8235311A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a kidney stone is considered an emergency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kidney stones is greatest in males between the ages of 30 and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5057-2ECE-4FAC-B5C5-3CEB48111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and size of the stone largely determines the type of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pain associated with kidney ston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B33C-3661-4A5F-9FDB-FB82C9010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the ureteroscope and cystoscope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lithotripsy and laser lithotripsy break the stone into smaller pieces that can pas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D5B3-0D26-48D9-BFC9-244AEC834A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the stone is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715-65C2-4FCB-8AC8-217CBC8D9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recovery is good after stone passes or is removed, but return of stone formation i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pecific foods should one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510-0794-4463-BC21-EF7119C34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often experiences a strong urge to urinate frequently due to the inflammation and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E71-725A-488A-8B27-872039B25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ymptoms require prompt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during urin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C9C-5F17-4A1F-A96E-916B62A68E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crease a person’s susceptibility to these forms of bacter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for women to void after sexual intercourse and wipe from front to back after elimin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A66D-607B-4D9C-B733-847740DB5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cystitis and urethritis respond well to anti-infective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ncreased fluid intake be part of the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DCA-0B8A-402A-B010-4FC46505C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ype 1 and type 2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C8C-9860-4A7A-B204-E52D60A866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symptoms usually indicates an accumulation of waste products in the blood and electrolyte imbalance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pathology might be present with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41E-7724-48D7-842D-8E7B378C9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atients with diabetes who have elevated glucose levels and high blood pressure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nephropathy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641-8592-41FD-AF29-F07485D1FA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w-protein and low-fat diet may also be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balanced fluid intake and output be important for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diabetic nephropathy often lead to? (end-stage renal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0303-22EF-49AA-A4DF-4D1F4B369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occurs when increased abdominal pressure forces urine thought the bladder sphin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on tasks or responses in daily life increase abdominal pressure and may cause leakage of urine in those with stress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4277-727D-414D-A96F-8D35CA7FB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is more common in olde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 older adult deal with episodes of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1BF3-52D6-402B-B0A8-6D2DD0EB7E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llagen injections help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re helpful for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ercises and how are they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8CB-AE49-45A4-9800-BA5BF234D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resolve within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most often in children and adoles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A6D-AB35-41D7-91B0-56A6E970A8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ypertension result from acute glomerulonephr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D11-F123-478E-86AA-4AD5A927AA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sodium restricted in the treatment of acute glomeru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9C3-8991-491C-8FB7-6DBD4FA94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dialysis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C98B-F6AA-43BB-9D72-52EC2F60D6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odialysis can take place in either a patient’s home or in a medical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fistula is established and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rinary tract is responsible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ing, storing, and excreting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sing the blood of wast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ng the water, salts, and acids in the body fluids to ensure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ly Func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W0256-11-06A"/>
          <p:cNvPicPr/>
          <p:nvPr/>
        </p:nvPicPr>
        <p:blipFill>
          <a:blip r:embed="rId1"/>
          <a:stretch/>
        </p:blipFill>
        <p:spPr>
          <a:xfrm>
            <a:off x="1477800" y="1465200"/>
            <a:ext cx="6323040" cy="3641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uses patient’s own peritoneal membrane as a filtering de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lysate solution passes into peritoneal membrane through permanent cathe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diffuses existing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ed fluids are drained from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W0256-11-06B"/>
          <p:cNvPicPr/>
          <p:nvPr/>
        </p:nvPicPr>
        <p:blipFill>
          <a:blip r:embed="rId1"/>
          <a:stretch/>
        </p:blipFill>
        <p:spPr>
          <a:xfrm>
            <a:off x="1333440" y="1539720"/>
            <a:ext cx="647712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,000 people receive kidney transplants each year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% are performed on patients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ad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merulo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ation requires immunosuppressive agents to prevent potential rejection of the or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renal failure (ARF) is characterized by a sudden and severe reduction in ren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F qualifies as a clinical emergency because nitrogenous waste products quickly accumulate in blood causing an acute uremic epis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or infrequent urination (olig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blood flow to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renal damage to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obstruction of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renal failure can lead to death if not treated promp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goal is to reverse the decreased renal function. This may be accomplish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fluid intake and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ng a high carbohydrate/low protein diet to avoid a protein imbalance (called metabolic acid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sodium and potassium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may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pt treatment can reverse renal failure and lead to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rinary System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the gradual and progressive loss of neph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versible loss of rena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onset of waste buildup in blood (ur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3504960"/>
            <a:ext cx="27432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yth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760" y="3505320"/>
            <a:ext cx="40338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ceration of gastrointestinal muc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ir and skin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breathing (dyspn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cid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3520" y="1654200"/>
            <a:ext cx="8001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—weakness, fatigue, and lethargy (due to an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remic syndrome worse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go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prolong and improve qualit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for dialysis or kidney transpla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ed dietary intake of protein and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infective ag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emetics (to control nausea/vomi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ythropoietin (a protein to help combat anem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triol (a form of vitamin D to strengthen b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lammation of the renal pelvis and connective tissues of one or both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type of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onse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preceded by a 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results from bacteria migrating from the lower urinary tract to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terization or diagnostic procedures such as cystoscopy can introduce organisms into the urinary b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re at greater risk for developing pye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made by assessing clinical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graphic studies indicating swollen or enlarge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ysis of a clean-catch urine specimen that indic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hite and red blood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bacteria, pus and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 (penicillin or cephalosporin) for 7 to 1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luid intake to dilute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detection and prompt treatment usually leads to full 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nes in the kidney or in the urinary tract formed by the concentration of mineral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es form as a result of excessive calcium or uric acid in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465200"/>
            <a:ext cx="69343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 in flank area (renal col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the urine (hemat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nephrosis may result if urine is prevented from flowing past calcu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 function is usually determined by urinalysis and bloo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sults demonstr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 filtration, absorption, and elimination of metabolic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 fluid and electrolyt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alua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between 30 and 60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stasis from ob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kidney stone and treating pain/infection are primary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 therapy is given for 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tones (3mm or less) may be allowed to pass naturally with increased fluid in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may be used to dissolve some st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procedures for remov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h stones into smaller pieces using conventional or laser lithotri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and remove stone using a ureteroscope or cyst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cedures mentioned previously fail to remove calculi, surgical incision into kidney may be necessary to remove stone before permanent damage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 at least eight glasses of water a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foods hig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a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us cyst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inar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e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eth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are common forms of urinary tract inf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urination with burning sensation and discoloration (dark yellow, pink, or 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n the pelvic region and low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coli (mos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caused by chemotherapy or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penicillin derivatives are used to treat complex cystitis) for 3 to 5 days for uncomplicated cases and 7 to 10 days for recurr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emptying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renal changes (called glomerulosclerosis) that result from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type 1 diabetes (and many with type 2 diabetes) will eventually develop ren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 and body 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or 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urinary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mptoms of Urinary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s and pyelonephritis are common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fluid intake an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for patient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dialysis or kidney transplant as part of long-term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trollable leakage of small amounts of urine from the bladder during physical exertion or actions that stress the pelvic muscle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ning of the pelvic floor muscles and urethral structure, often attribu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 from child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from an existing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al changes associated with aging/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(estrogen cr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in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and swelling of the glomeruli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rimary disease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evelop secondarily to a system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llows a streptococcal bacterial infection of the throat or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the urine (proteinur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urin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n urine (hematu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(not always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if infection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for edema an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sodium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oids (if immune reaction is suspec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stage renal disease forces approximately one in every 10,000 people to use dialysis to filter wastes from their blood and urine. Without dialysis, these patients will eventually 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tula provides access to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s drawn out of the body and filtered using an artificial kidney (hemodialyz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ed blood is returned to th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Student</cp:lastModifiedBy>
  <cp:lastPrinted>2004-12-10T16:56:32Z</cp:lastPrinted>
  <dcterms:modified xsi:type="dcterms:W3CDTF">2011-06-14T20:35:51Z</dcterms:modified>
  <cp:revision>101</cp:revision>
  <dc:subject/>
  <dc:title>PowerPoint Presentation</dc:title>
</cp:coreProperties>
</file>